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CF0-3DDF-4648-B219-58D280A5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4B6-2F7C-4DBD-9749-1539E73A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3DB7C-EF6B-495C-A066-E43CB8FA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92019-9B03-4CF7-8CD4-72368CAB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5FF11-C4F3-4048-A922-A0B1246F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B4CD2-929A-497D-A044-0646572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51FCA-CA65-4219-92A8-037E5FAF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DCD55-3E9A-4199-978D-E84BFC0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447A6-BF4A-4ADF-9D8D-C9BCA81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E9E13-ACC2-46C4-BC10-58C02543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3957B-8C30-443F-B30B-76E5ABA2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2D835-FBCE-4A3B-8138-E79D7454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AEC-795E-4967-A1E6-F345A74C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BAA40-4614-444C-827F-F7F8E72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11D19-87F2-4EBB-835C-C2BEF91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0C480-0E95-4BAF-A56B-11C20F8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B75B2-384C-40E1-974C-5EC54A9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7563E-5494-4A3C-897B-E39079B9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C5206-C547-43BF-9EAA-819D3FB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C0990-51C3-4BAA-9925-35D1DC58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1BD8B-F919-4114-8354-BFA60BDD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4B572-B261-4AE2-8EF5-1871F3FB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5BF1A-FF43-4AEF-86F1-910CFD72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678-CF6B-44F6-9376-03E4BB4D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0959E-31BE-4E2B-9C74-A2129CBF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4166D-5E77-4D86-BF3A-AD84F84B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34CFC-9E77-491D-BEFF-FC39037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8576C-DA2B-4390-A2C5-7AD9B0A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A0B30-657E-4687-A651-2C4C5F43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27F90-6AD9-4BA3-8F04-C201D232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53B28-C1EC-4E75-824E-437E015D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8D790-FB46-451D-A1C9-F784B71B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636EF-EC10-428A-A1D5-0B41DE6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5094C-FE2D-4536-8FF6-17E75EF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0E3E-D869-4435-9CAB-A6364B4E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9D971-1A77-4085-B78A-9CA60C6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D9572-8954-4025-8372-F48A77C2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54771-F360-45CC-8E77-82FD8B06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67BC8-F4FD-4928-B6D3-70DBE9D0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C2382-A1D1-4F94-A8A2-F40A19A8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0E068-EE01-44AC-A0F2-F0B1A610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750D6-0F74-4A1C-BC2C-1E049C36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F320C-284C-4810-86B6-C7F5E0E9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B92FC-E450-47A4-8B3C-B15D5258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617F7-5999-48F0-A797-BACFB72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1478-E5F6-436E-BFB4-1ACA9F2B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90A43-C421-41F1-971E-EEA43C1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4D90C-7DF6-47A1-8A71-ED90785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45AAB-6007-4648-BD09-868D5283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D8F6A-A572-455F-B076-50ED9CE0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EFF46-1415-4554-89C9-F94E9BAE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8405B-F555-4045-82F2-6DB528B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BCD86-FD56-487F-BF59-B848C38E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62830-D1B3-40E8-8A7F-01A014F5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074AC-3FA8-427A-A3BF-A5FA9B04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AD501-1A57-4A80-860D-BBCEC4F5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4520-1A1F-43C0-A80B-406444ED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CE508-2E49-487E-A729-0E650B27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FD5DB-B823-4E3B-BE75-81E2C6C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C8970-F760-40D2-88B4-F77F8A1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D994F-CFB5-4B4A-A5EE-E6453D78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CC099-1A5C-4FFE-A13E-93A0825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5EF9D-8292-447C-9CE6-CAB4B2DB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53871-6D67-4D53-8924-005FE481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639A0-E1B5-49C7-8D84-67620686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BB921-DA98-48FE-9B50-6D191070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C9EBC-294C-43B4-9606-8728304B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BFCF-B8EA-4891-A5DB-F076E117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794A1-77B7-4EFA-B2D1-6A7922BB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080EF-9F40-4DC6-B3E4-837571ED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41BEF-A81F-4FBE-869E-624753BC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78A2E-FD64-4070-97D7-39FFD612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9553F-F2C3-4043-94A7-4361D0AB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97EE9-E8DD-49BE-BF47-0E918039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3A4ED-C922-4F1A-B432-199514B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A7374-A667-4FF5-9BC5-A49811B3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4DF3F-7AC0-4F4E-BA8C-948FE13A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23AF5-23C9-42B7-9742-7EE6685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0F28-5AAF-4428-9F2B-A53BD98A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E791E-9270-4904-A8B5-F64B9633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4792A-5B55-4B88-946C-A0DC1351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76EED-A587-485E-A2CD-EE1E3F35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B03A3-E51B-4C2A-B75F-684A630F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30C60C-EB6B-4CCE-AFB0-657BF36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2B88C-1790-4597-9333-BEF734F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BE4987-DD04-4849-843C-D8429F3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0CAAB6-9873-433E-92A2-D7A5DA5F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A1511-9481-4832-A7C2-42442C7D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2F3D2-5FA8-459E-862B-23CED7E9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51CD-A06B-4BCA-8BEF-B82201D0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84520-BB46-43FC-8311-646828D6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3FE8F-445F-4D2F-8077-4A439D93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94EFD-8787-426C-872A-9B4318C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7CB1A-0520-42D6-A3A2-5C7769A9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9F8C5-D32A-4A4A-8F72-CA879365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A0F44-D6C8-4A9F-8B6C-84A7EF9E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082B9-1F29-4430-85F0-4B7EB7E0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F6DB1-D70F-42EF-AF7E-F6415B6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C39B2-DA4E-4763-AF01-079D3C2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BB1141-CBFC-45F6-BF46-5F06E0C3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11F6-8BCC-4FFD-90C3-67B5C5D2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CF3BB-0B8D-45D0-B122-F60FB5E6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21CE5-9B78-4B18-9406-EDEC7A39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DE377-0A75-4D7C-AE7E-905BC772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782F5-2427-4599-A943-6133DAAF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26F53-D8CC-4A32-9D38-619114B9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5BD15-1FBB-42B1-B035-EAB18D7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DCADC-4584-427B-A1BA-6B9049A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29E19-04FC-4FE9-907A-D39E6DEF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4FF8D-9855-4E18-8BA7-F3EC594E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D6868-181D-4358-9CA4-642E839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ED7-E762-4663-BF17-B2173A5C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E4CF-6716-4E8B-B4C6-ACB0032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5A3D3-F2B4-4BBF-96FE-AA3CFAD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B775FC-D1D3-4CEE-BC99-ACFF6297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0B922-2447-4545-9A3D-03CA96B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3AE60-CF10-4100-BF1F-87511683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27759-2B57-49DD-8A5C-F2CD76A1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8A152B-7BF6-4878-BC4D-BC6040C4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33873-D805-4484-8A5E-E77477CE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FCF07-4DAE-4E29-905B-B7632056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72705-E37D-4026-8EC4-2E83E7DE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B8744-389F-49E9-B1BE-3F0116F4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889A-C8EF-4602-8893-64BBAE9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15D60-6A55-44EC-AA00-0107847B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20978-2282-4CB5-996B-E83DF0C5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77823-6DCF-4C26-A54D-BDE5AA0E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706CCD-8172-4BAE-B499-7EEA0D2B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4499D-2717-4679-99F8-14B37988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9BFDCF-4497-46BC-BB2A-A199E355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EEE6D7-97BD-4784-8DA6-05AF915D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579616-5004-4BF1-AF29-6AF6F60C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4B252-9AED-486B-A452-71D791FE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D5B37-66B9-43E9-B1B9-D3C05E0F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26C7-5291-4814-8AF4-8D396307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DAD92-3657-49F4-B8F8-3934F576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82D91-59F5-4E53-AAF4-39C66EDE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7A5CF-76AA-4C3E-84DD-95DBC15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0F3DC-B5B0-4817-9E8D-AA41665B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DA42E-46C7-42EA-A00C-FA8A087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A9051-2E7B-4CBE-A06F-36581A93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4D10C-04C5-47D6-92B4-1BB00C97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E4D78-6A66-40E5-986B-549DAC2E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6341C-C3F6-4E2D-BA89-599131D8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D2E2D-E25B-40F8-BB48-A211D01F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24F6-EA08-4B4F-B509-56E772A2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D840D-03ED-457B-9E19-F11E35CF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83B60-B8E5-4AF3-8A02-13B97935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E026B-E705-4B74-9894-2DFFD799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F64E5-CB65-4997-9030-3722FF89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4EFBE-64B3-45EB-8835-CB59A363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45D0A-5A99-48A8-928A-70462AD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A1B4B-329A-4C81-8B2F-FD6155F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1C50D-1984-4256-B146-8277333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7F753-EE14-4126-A5D4-5306007A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5EF39-E7AC-4902-B5F0-6671FDF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4647-F986-4835-AC7F-B81F7B9C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051F3-689D-4307-8D0B-F4AAB1B6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2348A5-C433-4904-A5CB-0CC804BB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83E37-805D-4013-B398-D0979C72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DB62A-8643-4493-8E49-9E12F168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A1813B-C3A4-4B5E-B1D3-ADAE2C13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AED09-72F6-4586-8F31-F3500FBB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22609-63F7-4FAC-AB85-61319752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F0F552-75CD-45A6-80F6-A55BD06E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64556-41CE-4EC5-AF2F-3D1B359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1A4CE-E762-4143-A70B-8A74ED7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776DD-1837-4EFE-8CF8-55D9210C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66869-9DE2-4226-96F7-36F18F3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40DF6-EF16-45FC-AE20-3A7F57FA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57710-5005-409B-BE44-4477DDEC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4E995D-FE47-42B2-9B83-108AF567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A39EE-0D23-4144-9E3E-9C346A45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0D07AB-2B26-411F-8149-F3A8E353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8A031-C6F1-443D-968B-542559D3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BDBD7-D424-4A71-BABA-5527002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57329D-B038-4B70-BA57-6A9FC8BD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ED1C6-A43C-47A8-AEB0-22257FE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7135-0B78-4BAC-B161-25A9EC48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040BA-D5E8-446E-A2FD-D752308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BC9A4B-1436-4416-82AC-1C5C5F2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EE244-2A4B-4B4C-A5CA-B787977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4D9AEB-ADF9-45F3-B5DB-D7D63971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741E8-F6D3-4FA8-9C33-A98A0449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12BA4C-EF35-476F-8084-0AAA40FC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5A3E13-7F64-4AB8-B0AD-7EE38769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D40E9-5E94-4D13-8ACB-1E3E1B4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0363A8-B33C-4A01-9A3E-E2BE5631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A3DA36-5B94-4CB4-8FEF-C2CA65E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887A-15C0-41D2-BC1E-6CAADE76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375765-2EA9-47CE-8473-D4431B0F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C558DB-F407-4F44-B45C-D2FBF11C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F09D31-4236-4401-AE36-75D6B54A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25D1B3-EAEF-4657-ACA6-11660561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72A003-085C-4A01-8EB0-AAD25E0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8F839-CCCA-440F-A80B-54E9853D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52C23-3936-42BE-AF99-932A31E9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3B35-18A7-430B-920C-C19C9B2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B3562-797E-46B7-A95C-53545B1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213-BEC6-421E-8A68-1ADCE9A9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ABF5-3679-4D98-A0FB-275B1B6E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5F20-8EE1-4516-8A82-BDB5489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31E6-742D-409F-ADB2-0A49FE6F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91CE-C988-4431-A059-C8E0A711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4D423-BD71-43B6-80B8-2E4B53E2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80B20-DB0E-4106-B091-78919EE9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BF4B-7687-439D-842E-8342A076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68F6-63DC-44B2-85B9-76C23429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6E034-7670-4A66-B93D-D09D137D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8D369-8823-435E-9924-93AA5359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180-2A60-4666-8696-2D441811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2FEE-1C48-480B-8779-53851F7C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972C8-1AD9-4DA6-BE92-AA85A96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D5195-EC40-40C8-8136-4EB44188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E628-B6C4-4FD3-945E-8B9EA99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F80C-FDA9-452E-B826-5B463E2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8069-7076-4FF4-BC6A-487FC11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C9BE-F01C-4BEB-A380-114AF14E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9148-5B3A-40FC-A289-1F1221B5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3083-413F-4419-A2D0-F7FB71F6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A4AF-1115-4D16-BE80-AFB13664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34A-2F23-48BB-86F7-2B85D4CE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274F-EF94-4F41-BA64-1FF5533E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4E47-983C-46F5-9997-383FC4D3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B8DBF-ED07-4A4B-B260-A7CCDBE4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0F537-7860-47E3-97B2-A330125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8265C-D8A9-40FF-B4FC-DDA4FDE8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A339-36A8-4B9B-91D6-E6FDE10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1F22-3123-4B63-9FBA-66564258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2DCBA-2BE5-49E2-8C42-C5ADAED1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A807D-DFA7-419F-BEC6-6F1FDDA5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CA71-713E-4C54-965B-817AF47E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884-8D97-4A7C-963E-297722B1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3223-ED8F-42FB-B644-586697E2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3352-66AF-44C2-963D-480D9A00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F13AB-1EB6-425C-B0EE-2D3BD40F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D2A34-E6BF-44F7-9563-97D8545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8E3DE-E35F-4E8D-A488-6EE2AA1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EE165-BA05-45EF-97F2-22017F7B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AB27B-378B-4710-83EB-C07C440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EA677-2186-42CB-8900-3B53788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BF31C-2545-408B-98BA-123FA492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8369-9568-4F48-B423-F5D83F49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12A-2C2E-47B6-BBA9-E8BDE6A7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5037-F8AC-4A54-B377-CBA8BC2F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874B9-4CB0-4177-BE68-3602CC14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2103-4D5C-4E7A-BAEF-6109CC90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1E610-45F7-4CBB-ABFA-BF77D92A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60D1C-CA08-462D-9363-430B83D8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5438-8CE5-4F4C-96D0-A882C454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0A7A-309C-4D94-BE3C-8B07BC24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B4600-938F-4B20-B18C-0D225DAC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A0FF1-7C6E-463C-A802-17ECB354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64867-5C32-4D8F-91C8-8B93F9A2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FFB-CD25-4422-9C7D-2FC7678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BA5E6-AA2B-4B89-9FEE-72DA603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5904-AEDC-413C-9B78-D850B876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3A062-F44C-4668-AB21-A9B6FAAB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BC060-50D7-4A8A-954E-E3A37600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B6493-DDC3-46DE-A82F-D50DF3B6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FBFD-52B1-4920-9CDE-CD0C8E57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7472F-7117-402B-913E-2AECCEBA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2EA22-3E21-45DB-8EF6-2A111F19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9C345-0671-4114-9250-6EBDB875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6DC8-5FDA-4269-96E4-CC5E037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F58-841F-4689-9355-A5E5F1D5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A41FB-2A2F-48C8-83FB-9A605545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6DCF-7DA5-41B7-AEF8-28BC9DE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19F19-E192-4ABB-BE1A-9054846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FA3EA-3CD7-42C3-A626-71DD5C98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ABAAF-CDF5-4FAA-AEA0-795BCCDE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4B5F-E590-4F3E-8DAA-38E90FB3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C0578-B34D-466E-9BAE-4FDFC790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4B1D5-189A-4187-8523-8F82D36A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E74C6-1B44-48A4-958D-448B0CBD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544D6-F5DB-4428-9E82-4D14538A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F256-CF48-4AF4-90CC-AD1D62E635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5CF-5A93-4316-9E9D-D8BF8700F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CB56-4944-44BF-B95B-1DE8A3E71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E033-6E6B-48B3-89C0-ACFC77257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9E7-792A-4312-A6E6-2162A6A5CF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DF0-C3C9-48B4-9F10-5D837AEAB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9103-41A3-45F2-8235-A250D5468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D9B5-FC85-4B86-8C23-E2710B917A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9B92-1D82-417A-99CE-827ACA2D73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51C-E6E3-4A22-B674-212DD4F65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82CD-5BAE-4B80-8284-A7C224BB66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ABEA-2C35-40A1-8B0B-E936123B8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EA08-7E39-4F74-8D1C-43B0C50CB4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186D-C53C-45BA-9209-485606296E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D325-A1E6-471C-8278-E4AB66EBA6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9215-A7F7-4E82-A0A2-E1B953F17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88F-5099-4006-9D00-79B622E4C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6B7D-B647-45A8-8EAF-B46CAE5F11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4C10-B7DA-4A49-8AB5-BB311138F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502D-46BA-406D-8BC9-A13E1D6F15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B78B-7C90-4358-8477-1A2C1FBB1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D9E9-E005-487E-9709-0032F26175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9D1-7041-42D0-9993-FDD6307327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CFA7-7118-4C81-8419-36092265C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249-DB6E-404F-9132-FE725BF980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D272-5C82-4D28-AB6E-A8168F480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783-0D25-4FD6-B204-2B5935DB3F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6243-4B6A-434E-8E69-8055E1921B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78AA-8937-45FB-BAB6-84716B1AFE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3DB6-E1A0-4938-926E-DA76946CF9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F282-A9CF-4C97-BDD0-B3BE426D51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2E6-CB86-4632-8CB2-4B38A8361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FB63-B974-493F-98F0-043142334A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1F95-92FC-4D3A-B806-0A3D70CCAE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BDDA-A0C7-4F8C-985B-3DE73105AB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AB0B-0874-4211-AE4C-7A89ACF45D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D39D-8C66-43D2-8D36-B7B5C2D18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D577-C1F6-4153-90D2-8E67B40433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BF8D-2C3D-41EA-8BC0-8F0127795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B913-94B2-4170-A77F-700DCDE51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375-5CC7-47DA-B635-D60C0FAD99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431B-9193-4D39-BCFB-66D7C2509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63640" y="1158840"/>
            <a:ext cx="7715160" cy="164772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649440" y="3370320"/>
            <a:ext cx="81453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66680" y="1467000"/>
            <a:ext cx="8812080" cy="19015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2" descr=""/>
          <p:cNvPicPr/>
          <p:nvPr/>
        </p:nvPicPr>
        <p:blipFill>
          <a:blip r:embed="rId2"/>
          <a:stretch/>
        </p:blipFill>
        <p:spPr>
          <a:xfrm>
            <a:off x="1311120" y="3755880"/>
            <a:ext cx="6962760" cy="23432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2700360" y="191628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3059280" y="24494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5724360" y="198900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5637240" y="249228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8323200" y="191628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8502480" y="2492280"/>
            <a:ext cx="64152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9"/>
          <a:stretch/>
        </p:blipFill>
        <p:spPr>
          <a:xfrm>
            <a:off x="3348000" y="436572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0"/>
          <a:stretch/>
        </p:blipFill>
        <p:spPr>
          <a:xfrm>
            <a:off x="3492360" y="501336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1"/>
          <a:stretch/>
        </p:blipFill>
        <p:spPr>
          <a:xfrm>
            <a:off x="6084720" y="4365720"/>
            <a:ext cx="6415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2"/>
          <a:stretch/>
        </p:blipFill>
        <p:spPr>
          <a:xfrm>
            <a:off x="6588000" y="501336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176040" y="1085760"/>
            <a:ext cx="87919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90400" y="971640"/>
            <a:ext cx="7963200" cy="53719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7020000" y="119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291636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4140360" y="3860640"/>
            <a:ext cx="86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2268360" y="472428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3564000" y="515772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3851280" y="56037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2" descr=""/>
          <p:cNvPicPr/>
          <p:nvPr/>
        </p:nvPicPr>
        <p:blipFill>
          <a:blip r:embed="rId1"/>
          <a:stretch/>
        </p:blipFill>
        <p:spPr>
          <a:xfrm>
            <a:off x="947880" y="1581120"/>
            <a:ext cx="7248240" cy="36957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4211640" y="361620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757080" y="731880"/>
            <a:ext cx="7629840" cy="60102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388908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572000" y="5373720"/>
            <a:ext cx="3889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204840" y="1400040"/>
            <a:ext cx="8734320" cy="40579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3419640" y="4724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4788000" y="4724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6012000" y="472428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7496280" y="472428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128520" y="849240"/>
            <a:ext cx="8886960" cy="5705640"/>
          </a:xfrm>
          <a:prstGeom prst="rect">
            <a:avLst/>
          </a:prstGeom>
          <a:ln w="0">
            <a:noFill/>
          </a:ln>
        </p:spPr>
      </p:pic>
      <p:pic>
        <p:nvPicPr>
          <p:cNvPr id="1027" name="图片 11266" descr=""/>
          <p:cNvPicPr/>
          <p:nvPr/>
        </p:nvPicPr>
        <p:blipFill>
          <a:blip r:embed="rId2"/>
          <a:stretch/>
        </p:blipFill>
        <p:spPr>
          <a:xfrm>
            <a:off x="965160" y="2133720"/>
            <a:ext cx="7639200" cy="199044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1268" descr=""/>
          <p:cNvPicPr/>
          <p:nvPr/>
        </p:nvPicPr>
        <p:blipFill>
          <a:blip r:embed="rId3"/>
          <a:stretch/>
        </p:blipFill>
        <p:spPr>
          <a:xfrm>
            <a:off x="874800" y="4348080"/>
            <a:ext cx="780084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66680" y="1747800"/>
            <a:ext cx="8810640" cy="3362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00000" y="3774960"/>
            <a:ext cx="604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60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204840" y="725400"/>
            <a:ext cx="8734320" cy="59342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900000" y="506880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900000" y="561816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900000" y="619452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2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